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6253-B471-4B2F-AAD5-0243B8012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51A1-7F42-43FA-A65A-DF12A5A5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8757-A477-4BFA-B854-35B60A5CD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A4FE-0EC7-4095-86B6-135C178E5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9816-0FD9-43BE-8C0E-BCD08DE3D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8876-6773-4E5A-9FB1-AA842B82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7528-1F47-4FAF-8340-B195075C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8CBA-262A-4B80-A388-202AE79C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774D-E07F-4974-89D9-E9BBAFD5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5955-B8AF-4284-909F-D3324404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E6E3-A3A2-4654-8783-4384AA6C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5631-C3B0-463B-B766-F8BD434A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F3A5-14CE-4E3F-90C9-7CE33604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C3C7-2657-48C2-B88D-47DE5707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4B22-6C19-4F48-8FBC-9FFE256B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37CB-4510-4A25-A241-B42915F5B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6813-EDD0-4353-93CF-BA17A09C3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06D26-B56A-45BB-A60C-7CF716FD2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DF8B1-0834-4905-A38F-A3B2EC5D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57554-968F-4406-9E3D-C506195F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5D8D3-CDEF-425A-A827-DE3B5BC7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28B81-0BDB-4F34-BBC6-5FF96C73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964D-CDA0-4C00-B4F1-CEC8EE31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E95FB-7D16-4192-9DBE-3D2521AB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39D71-B259-485F-A3EE-066460DF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5154E-915D-456F-924C-218AEC1F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81E38-BA13-4A1A-A3E5-7DEB6057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E8576-C3D3-4F23-9D6F-89218FD3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514D8-4B28-42B9-8907-C9D67EA92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FBB3C-A996-4DB1-A6CA-F07831910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BB68-59FA-460B-8EEC-21FBD5CA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2E69-E72F-40A2-A78A-70F91525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17A7-E63F-4642-896B-8219B8CC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1CC9-3F51-4041-9481-DE23FFF9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AA3D-3B03-4CE8-B941-25EEF8A5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20F4-3F49-4BCF-B56A-9CFA9101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7335-F812-4BBA-BBF4-449A8BF42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52B5-9903-4D5F-85A4-21FAB13FF2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8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65EB-329D-4AB2-A839-62B54F21D0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21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763120" cy="64771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1905120" y="4572000"/>
            <a:ext cx="5724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 Black"/>
              </a:rPr>
              <a:t>Basic Word Process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609480" y="838080"/>
          <a:ext cx="5435640" cy="56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838080"/>
                    <a:ext cx="543564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160" y="1224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trieving Docu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85840" y="1676160"/>
            <a:ext cx="480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89"/>
              </a:spcAft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e names can be modified once they are named by using these tool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spcAft>
                <a:spcPts val="689"/>
              </a:spcAft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ave A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e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spcAft>
                <a:spcPts val="689"/>
              </a:spcAft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rtcut Feature – Right click the file name with the mouse and select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nam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89"/>
              </a:spcAft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cuments can be deleted by using these tool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spcAft>
                <a:spcPts val="689"/>
              </a:spcAft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ght click on the file name with mouse and select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spcAft>
                <a:spcPts val="689"/>
              </a:spcAft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stakenly deleted files can be retrieved from the recycle b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Printing Document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64771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Before printing a final draft be sure to proofr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over the document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a neighbor to proof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pelling/Grammar Che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After proofreading, resave and pr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91200" y="2446200"/>
            <a:ext cx="131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3300"/>
                </a:solidFill>
                <a:latin typeface="Wingdings"/>
                <a:ea typeface="Wingdings"/>
              </a:rPr>
              <a:t>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754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haracter Formatt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spcAft>
                <a:spcPts val="938"/>
              </a:spcAft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Font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A group of characters that have a similar appear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938"/>
              </a:spcAft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Font Attributes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dditions that enhance your font for emphas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938"/>
              </a:spcAft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Font Size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The size of charact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938"/>
              </a:spcAft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Type Face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A set of characters with a common style and desig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haracter Formatt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814"/>
              </a:spcAft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Bold/Boldfa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 A formatting option that makes selected words print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ark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an norm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814"/>
              </a:spcAft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Italics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Characters are evenly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lant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ward the righ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814"/>
              </a:spcAft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Subscript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xt that has be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ower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tical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814"/>
              </a:spcAft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Superscript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Text that has been 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rais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vertical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561"/>
              </a:spcAft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Underline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horizontal lin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at is placed beneath characters.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(Do not underline for emphasis since you can do this with bold, italics, color, and font size.  Reserve underlining for hot links as an underline in modern computer usage implies a link web link or other file link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Paragraph Formatt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6400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Alignment</a:t>
            </a: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The way lines of text are arrang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, Left, Right,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Full Justified</a:t>
            </a: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Lines of text are both left and right align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Left Justification</a:t>
            </a: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lignment that allows a document to have an even left sli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Right Justification</a:t>
            </a: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Alignment that allows a document to have an even right si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Center Justification</a:t>
            </a: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A feature when activated will align the text horizontally on a li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rcRect l="59176" t="19031" r="24676" b="21659"/>
          <a:stretch/>
        </p:blipFill>
        <p:spPr>
          <a:xfrm>
            <a:off x="6856560" y="1832040"/>
            <a:ext cx="1676160" cy="380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4678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haracter Formatt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938"/>
              </a:spcAft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Border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A frame that surrounds pictures or tex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938"/>
              </a:spcAft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Bulleted List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A list of key points, each preceded by a symbol for emphas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938"/>
              </a:spcAft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Hanging Indent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All lines except the first line are inden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d in citing referen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938"/>
              </a:spcAft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Indent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Insetting text from one of the margi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75438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Paragraph Formatt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938"/>
              </a:spcAft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Line Spacing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The amount of space between lines in a docu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ngle Space, Double Space, Triple Space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938"/>
              </a:spcAft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Page Break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Indicates that the maximum number of lines have been keyed on a page and a new page is beginn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75"/>
              </a:spcBef>
              <a:spcAft>
                <a:spcPts val="836"/>
              </a:spcAft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3300"/>
                </a:solidFill>
                <a:latin typeface="Arial"/>
              </a:rPr>
              <a:t>Hard break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created by the use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75"/>
              </a:spcBef>
              <a:spcAft>
                <a:spcPts val="836"/>
              </a:spcAft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3300"/>
                </a:solidFill>
                <a:latin typeface="Arial"/>
              </a:rPr>
              <a:t>Soft break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created by the word processing program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467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Paragraph Formatt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00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3300"/>
                </a:solidFill>
                <a:latin typeface="Arial"/>
              </a:rPr>
              <a:t>Tab Key</a:t>
            </a:r>
            <a:r>
              <a:rPr b="0" lang="en-US" sz="27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Allows the user to move the cursor a predetermined number of spac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00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3300"/>
                </a:solidFill>
                <a:latin typeface="Arial"/>
              </a:rPr>
              <a:t>Text Wrap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Feature that allows text to flow around an object or graphi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00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3300"/>
                </a:solidFill>
                <a:latin typeface="Arial"/>
              </a:rPr>
              <a:t>Widow/Orphan Protection</a:t>
            </a:r>
            <a:r>
              <a:rPr b="0" lang="en-US" sz="27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Feature that will prevent widow/orphan lines in a documen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75"/>
              </a:spcBef>
              <a:buClr>
                <a:srgbClr val="6699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3300"/>
                </a:solidFill>
                <a:latin typeface="Arial"/>
              </a:rPr>
              <a:t>Orphan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rst line of a paragraph at the bottom of a pag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75"/>
              </a:spcBef>
              <a:buClr>
                <a:srgbClr val="6699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3300"/>
                </a:solidFill>
                <a:latin typeface="Arial"/>
              </a:rPr>
              <a:t>Widow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Last line of a paragraph at the top of a pag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Page Formatt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4640" indent="-40464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Margins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ace around the edges of a p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age Orient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rection a document is pri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833480" indent="-369720">
              <a:spcBef>
                <a:spcPts val="624"/>
              </a:spcBef>
              <a:buClr>
                <a:srgbClr val="cccc00"/>
              </a:buClr>
              <a:buSzPct val="7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rtrait – Taller than wid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833480" indent="-369720">
              <a:spcBef>
                <a:spcPts val="624"/>
              </a:spcBef>
              <a:buClr>
                <a:srgbClr val="cccc00"/>
              </a:buClr>
              <a:buSzPct val="7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ndscape – Wider than tal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Headers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petitive text located in the top marg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Page Formatt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spcBef>
                <a:spcPts val="649"/>
              </a:spcBef>
              <a:spcAft>
                <a:spcPts val="814"/>
              </a:spcAft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Endnotes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ferences used to credit the source of inform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290520">
              <a:spcBef>
                <a:spcPts val="550"/>
              </a:spcBef>
              <a:spcAft>
                <a:spcPts val="689"/>
              </a:spcAft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ced at the end of the repor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5120" indent="0">
              <a:spcBef>
                <a:spcPts val="176"/>
              </a:spcBef>
              <a:spcAft>
                <a:spcPts val="21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649"/>
              </a:spcBef>
              <a:spcAft>
                <a:spcPts val="814"/>
              </a:spcAft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Footers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petitive text located in the bottom marg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0">
              <a:spcBef>
                <a:spcPts val="176"/>
              </a:spcBef>
              <a:spcAft>
                <a:spcPts val="21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649"/>
              </a:spcBef>
              <a:spcAft>
                <a:spcPts val="814"/>
              </a:spcAft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Footnotes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References used to credit the source of information or add explan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290520">
              <a:spcBef>
                <a:spcPts val="550"/>
              </a:spcBef>
              <a:spcAft>
                <a:spcPts val="689"/>
              </a:spcAft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ced at the bottom of the repor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290520">
              <a:spcBef>
                <a:spcPts val="550"/>
              </a:spcBef>
              <a:spcAft>
                <a:spcPts val="689"/>
              </a:spcAft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erscripts are used for correspondence between the quoted/paraphrased material and the refere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Times New Roman"/>
              </a:rPr>
              <a:t>Word Process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that is designed for the entry, editing, and printing of docu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cc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Version = Microsoft Word (MS W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 processing document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andu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l Me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page fl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spcAft>
                <a:spcPts val="9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eatures that can be used to enhance the accuracy of a document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75"/>
              </a:spcBef>
              <a:spcAft>
                <a:spcPts val="711"/>
              </a:spcAft>
              <a:buClr>
                <a:srgbClr val="669999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pell Check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75"/>
              </a:spcBef>
              <a:spcAft>
                <a:spcPts val="711"/>
              </a:spcAft>
              <a:buClr>
                <a:srgbClr val="669999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rammar Check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75"/>
              </a:spcBef>
              <a:spcAft>
                <a:spcPts val="711"/>
              </a:spcAft>
              <a:buClr>
                <a:srgbClr val="669999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sauru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75"/>
              </a:spcBef>
              <a:spcAft>
                <a:spcPts val="711"/>
              </a:spcAft>
              <a:buClr>
                <a:srgbClr val="669999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izard – step by step tutori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75"/>
              </a:spcBef>
              <a:spcAft>
                <a:spcPts val="711"/>
              </a:spcAft>
              <a:buClr>
                <a:srgbClr val="669999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elp – Type in ques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75"/>
              </a:spcBef>
              <a:spcAft>
                <a:spcPts val="711"/>
              </a:spcAft>
              <a:buClr>
                <a:srgbClr val="669999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ffice Assistant – Found in MS Offi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75"/>
              </a:spcBef>
              <a:spcAft>
                <a:spcPts val="711"/>
              </a:spcAft>
              <a:buClr>
                <a:srgbClr val="669999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21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spcAft>
                <a:spcPts val="9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These tools are sometimes called utilitie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3049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Times New Roman"/>
              </a:rPr>
              <a:t>Word Processing Too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imes New Roman"/>
              </a:rPr>
              <a:t>Word Processing Tools</a:t>
            </a:r>
            <a:br>
              <a:rPr sz="3600"/>
            </a:br>
            <a:r>
              <a:rPr b="1" lang="en-US" sz="36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0066"/>
                </a:solidFill>
                <a:latin typeface="Times New Roman"/>
              </a:rPr>
              <a:t>-- Comment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4520" indent="-344520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ents are notes added to a docu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39760">
              <a:lnSpc>
                <a:spcPct val="90000"/>
              </a:lnSpc>
              <a:spcBef>
                <a:spcPts val="575"/>
              </a:spcBef>
              <a:spcAft>
                <a:spcPts val="711"/>
              </a:spcAft>
              <a:buClr>
                <a:srgbClr val="cc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viewer – person who adds comment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dd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169560">
              <a:lnSpc>
                <a:spcPct val="90000"/>
              </a:lnSpc>
              <a:spcBef>
                <a:spcPts val="550"/>
              </a:spcBef>
              <a:spcAft>
                <a:spcPts val="689"/>
              </a:spcAft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ect the text or item you want to comment on, or click at the end of the tex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169560">
              <a:lnSpc>
                <a:spcPct val="90000"/>
              </a:lnSpc>
              <a:spcBef>
                <a:spcPts val="550"/>
              </a:spcBef>
              <a:spcAft>
                <a:spcPts val="689"/>
              </a:spcAft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sert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nu, click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e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169560">
              <a:lnSpc>
                <a:spcPct val="90000"/>
              </a:lnSpc>
              <a:spcBef>
                <a:spcPts val="550"/>
              </a:spcBef>
              <a:spcAft>
                <a:spcPts val="689"/>
              </a:spcAft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 the comment text in the comment ballo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ck Chan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39760">
              <a:lnSpc>
                <a:spcPct val="90000"/>
              </a:lnSpc>
              <a:spcBef>
                <a:spcPts val="575"/>
              </a:spcBef>
              <a:spcAft>
                <a:spcPts val="711"/>
              </a:spcAft>
              <a:buClr>
                <a:srgbClr val="cc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rks changes and keeps track of changes made by reviewer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3429000" y="1828800"/>
            <a:ext cx="4876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Examples of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reating Document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Know the parts of your MS Word scre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spcAft>
                <a:spcPts val="561"/>
              </a:spcAft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spcAft>
                <a:spcPts val="561"/>
              </a:spcAft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u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spcAft>
                <a:spcPts val="561"/>
              </a:spcAft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bars and But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spcAft>
                <a:spcPts val="561"/>
              </a:spcAft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spcAft>
                <a:spcPts val="561"/>
              </a:spcAft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spcAft>
                <a:spcPts val="561"/>
              </a:spcAft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oll B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spcAft>
                <a:spcPts val="561"/>
              </a:spcAft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spcAft>
                <a:spcPts val="561"/>
              </a:spcAft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Task 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0" t="2407" r="11111" b="0"/>
          <a:stretch/>
        </p:blipFill>
        <p:spPr>
          <a:xfrm>
            <a:off x="4191120" y="2362320"/>
            <a:ext cx="4038480" cy="32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534520" cy="6400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191120" y="1905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R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380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Menu</a:t>
            </a: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2280" y="6094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itle 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3276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Task 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5791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Status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4495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Text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76920" y="5791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Scroll B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010280" y="5335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Toolb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724280" y="1523520"/>
            <a:ext cx="0" cy="38124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858000" y="762120"/>
            <a:ext cx="38088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791320" y="6172200"/>
            <a:ext cx="0" cy="304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248520" y="5943600"/>
            <a:ext cx="60948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4724280"/>
            <a:ext cx="91440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23880" y="6172200"/>
            <a:ext cx="0" cy="38088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24480" y="3429000"/>
            <a:ext cx="99072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3505320" y="609480"/>
            <a:ext cx="38088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990720" y="380520"/>
            <a:ext cx="0" cy="38124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160" y="12204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iewing Docu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S Word documents can be viewed in different layo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Print Layo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widely us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Norm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widely us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876920" y="3733920"/>
            <a:ext cx="3200400" cy="2400120"/>
          </a:xfrm>
          <a:prstGeom prst="rect">
            <a:avLst/>
          </a:prstGeom>
          <a:ln w="3240">
            <a:solidFill>
              <a:srgbClr val="7e9ce8"/>
            </a:solidFill>
            <a:miter/>
          </a:ln>
        </p:spPr>
      </p:pic>
      <p:sp>
        <p:nvSpPr>
          <p:cNvPr id="217" name=""/>
          <p:cNvSpPr/>
          <p:nvPr/>
        </p:nvSpPr>
        <p:spPr>
          <a:xfrm>
            <a:off x="152280" y="63691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ocuments can be switched back and forth between views depending on the user’s prefere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876920" y="1219320"/>
            <a:ext cx="3200400" cy="2381040"/>
          </a:xfrm>
          <a:prstGeom prst="rect">
            <a:avLst/>
          </a:prstGeom>
          <a:ln w="3240">
            <a:solidFill>
              <a:srgbClr val="7e9ce8"/>
            </a:solidFill>
            <a:miter/>
          </a:ln>
        </p:spPr>
      </p:pic>
      <p:sp>
        <p:nvSpPr>
          <p:cNvPr id="219" name=""/>
          <p:cNvSpPr/>
          <p:nvPr/>
        </p:nvSpPr>
        <p:spPr>
          <a:xfrm>
            <a:off x="2362320" y="1447920"/>
            <a:ext cx="228600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905120" y="4952880"/>
            <a:ext cx="274320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2280" y="122040"/>
            <a:ext cx="7848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iewing Docu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S Word documents can also be viewed in layouts that allow special func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Web Pag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624"/>
              </a:spcBef>
              <a:spcAft>
                <a:spcPts val="77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ooks much like normal view but is saved in a different format (html file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Out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624"/>
              </a:spcBef>
              <a:spcAft>
                <a:spcPts val="77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ooks much like normal view but includes various levels indicating indentions and tabs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52280" y="62164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* Documents can be switched back and forth between views depending on the user’s prefere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Saving Document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save in a familiar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spcAft>
                <a:spcPts val="624"/>
              </a:spcAft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folder for multiple docu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sure to name your file appropriat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spcAft>
                <a:spcPts val="624"/>
              </a:spcAft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Word will add a file extension to the n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names are followed by a period and a three letter extensio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Word = .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As vs. S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a new document with Save 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update an existing document use S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be sure to make a back up cop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553080" y="2209680"/>
            <a:ext cx="2286000" cy="31244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Editing Features Include: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6629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MS Word is equipped with many features that allow a user to easily edit (modify) a docu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t/Paste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 (right of curs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space (left of curs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over or Overwrite (press insert k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/Re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934320" y="2666880"/>
            <a:ext cx="18288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cu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 X-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 V-P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 C-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 F-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520" y="122400"/>
            <a:ext cx="762012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trieving Docu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371600" y="939960"/>
          <a:ext cx="6095880" cy="516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39960"/>
                    <a:ext cx="6095880" cy="5168880"/>
                  </a:xfrm>
                  <a:prstGeom prst="rect">
                    <a:avLst/>
                  </a:prstGeom>
                  <a:ln w="9360">
                    <a:solidFill>
                      <a:srgbClr val="3366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971800" y="2743200"/>
            <a:ext cx="3200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The Search feature can be used if a file cannot be foun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File name can be searched through a specific dri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15:44:43Z</dcterms:created>
  <dc:creator>melinda.smith</dc:creator>
  <dc:description/>
  <dc:language>en-US</dc:language>
  <cp:lastModifiedBy>ses0305</cp:lastModifiedBy>
  <dcterms:modified xsi:type="dcterms:W3CDTF">2005-06-09T13:35:39Z</dcterms:modified>
  <cp:revision>56</cp:revision>
  <dc:subject/>
  <dc:title>Today’s Agenda Friday, August 20, 2004</dc:title>
</cp:coreProperties>
</file>